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017-D3C8-4C49-97AE-84EA26BC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2B8-CBF4-4CE1-9206-E9E3BF8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551-B5A6-42B2-9F29-30A81DF2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C55-ABFF-4B12-A637-2D04BDC4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682-BBF2-44BD-B639-C1B6DD01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002-2EFB-447E-A11A-CD0FBAC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07F-9F5F-4B15-B53C-DF1FE5C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E22-292A-49C7-864D-58F1A2E6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A3F-AEB5-4C58-8CC6-E57471D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BA0-E2CC-4382-8A7C-ECA289A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1C8-2637-4165-A438-126579C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56A-A411-4BA5-B42F-4F7FDE5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806C-EB96-4CFE-AB8B-D45D2F3A8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1.xml"/><Relationship Id="rId13" Type="http://schemas.openxmlformats.org/officeDocument/2006/relationships/slide" Target="slide10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9.xml"/><Relationship Id="rId17" Type="http://schemas.openxmlformats.org/officeDocument/2006/relationships/slide" Target="slide21.xml"/><Relationship Id="rId18" Type="http://schemas.openxmlformats.org/officeDocument/2006/relationships/slide" Target="slide20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9.xml"/><Relationship Id="rId22" Type="http://schemas.openxmlformats.org/officeDocument/2006/relationships/slide" Target="slide26.xml"/><Relationship Id="rId23" Type="http://schemas.openxmlformats.org/officeDocument/2006/relationships/slide" Target="slide25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loudsign.com/blog/wp-content/uploads/2007/11/gold.jpg&amp;imgrefurl=http://proteinos.com/channel/biotech&amp;usg=__zNtZ966dENPEsy4sbvk4H8qM3WY=&amp;h=311&amp;w=390&amp;sz=22&amp;hl=en&amp;start=2&amp;sig2=QAZHOWEZaoSnVg-ueHVMHA&amp;um=1&amp;tbnid=Dy1gojGKTUoSTM:&amp;tbnh=98&amp;tbnw=123&amp;prev=/images%3Fq%3Dgold%26hl%3Den%26um%3D1&amp;ei=2rTISabRA4LCMuf82N0D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goldprice.org/buying-gold/uploaded_images/gold-and-silver-coin-prices-790168.jpg&amp;imgrefurl=http://www.goldprice.org/buying-gold/2006/04/gold-and-silver-coin-prices.html&amp;usg=__FijQKP2FVqH2eeBc5RwTMehSnXk=&amp;h=400&amp;w=436&amp;sz=44&amp;hl=en&amp;start=16&amp;sig2=jNcQG8GnAtFdmCEax05PHw&amp;um=1&amp;tbnid=Qa_hcH_nfs2g9M:&amp;tbnh=116&amp;tbnw=126&amp;prev=/images%3Fq%3Dsilver%26hl%3Den%26sa%3DG%26um%3D1&amp;ei=7bTISZ6fIo34MfXCmd0D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avidmacd.com/images/europe/100_6512_pope_closup.jpg&amp;imgrefurl=http://www.davidmacd.com/catholic/pope.htm&amp;usg=__DH0nrtQz0tLR82FIorJLgaZhUUI=&amp;h=416&amp;w=440&amp;sz=49&amp;hl=en&amp;start=12&amp;sig2=mBeqBA9g8vV8JXmksFp9JA&amp;um=1&amp;tbnid=lLuUZAAdr6-ubM:&amp;tbnh=120&amp;tbnw=127&amp;prev=/images%3Fq%3Dpope%26hl%3Den%26um%3D1&amp;ei=l7XISeDQF5rMMqDhsN0D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bible.ca/catholic-priest.gif&amp;imgrefurl=http://www.bible.ca/cath-overview-false-teaching.htm&amp;usg=__bQCIAW7FFAjLtyYdVvZwgyMJGP8=&amp;h=915&amp;w=921&amp;sz=27&amp;hl=en&amp;start=6&amp;sig2=CqHo5GlZfoATT0bxIPZ7Cg&amp;um=1&amp;tbnid=8x9YORnKiLM7XM:&amp;tbnh=146&amp;tbnw=147&amp;prev=/images%3Fq%3Dcatholic%2Bpriest%26hl%3Den%26sa%3DX%26um%3D1&amp;ei=3rXISebiNoSsMrLqrLwD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burningcross.net/inquisition/origins/rabbi.jpg&amp;imgrefurl=http://www.burningcross.net/crusades/christian-missionary-atrocities.html&amp;usg=__eI-QnMR2jdT8ZM0G3sQNeeKav3I=&amp;h=294&amp;w=250&amp;sz=12&amp;hl=en&amp;start=9&amp;sig2=c3ZGh6UWgHgRNY38IkwoAQ&amp;um=1&amp;tbnid=iMdPqLvAM9xOcM:&amp;tbnh=115&amp;tbnw=98&amp;prev=/images%3Fq%3Djewish%2Brabbi%26hl%3Den%26um%3D1&amp;ei=C7bISe_0KZLCMv-hsd0D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dellamanomusic.com/New%2520Images/2000Cover280x400.gif&amp;imgrefurl=http://www.dellamanomusic.com/ChristmasCantatas/2000yrsago.htm&amp;usg=__1vKeH0M8KoAFnHN-A8iOOOcvqQc=&amp;h=373&amp;w=280&amp;sz=10&amp;hl=en&amp;start=25&amp;sig2=DUm16KxWuMPsEBk6W8c2uw&amp;um=1&amp;tbnid=_xtuTT06rqkDxM:&amp;tbnh=122&amp;tbnw=92&amp;prev=/images%3Fq%3D2000%2B%2Byears%2Bago%26ndsp%3D20%26hl%3Den%26sa%3DN%26start%3D20%26um%3D1&amp;ei=frbISZz1FIzIM-nMydYD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polyglot-learn-language.com/poster.jpg&amp;imgrefurl=http://www.polyglot-learn-language.com/meetings.php%3Fpost_id%3D1067&amp;usg=___jrbGHC5aJwsOUOwezB7P4OVnSw=&amp;h=707&amp;w=1000&amp;sz=181&amp;hl=en&amp;start=4&amp;sig2=pfXmbx3Nv5kc1L979BECWQ&amp;um=1&amp;tbnid=A9n5dUglgJMzGM:&amp;tbnh=105&amp;tbnw=149&amp;prev=/images%3Fq%3Dpolyglot%26hl%3Den%26sa%3DX%26um%3D1&amp;ei=BbfISdqtA4vOMpHP0dYD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musicsojourn.com/AR/Prog/img/b/BadCompany/BadCompany_300.jpg&amp;imgrefurl=http://googlefritz.blogspot.com/2007_11_01_archive.html&amp;usg=__-cIoSmGOi7CmC8ekni3n0wif5I0=&amp;h=300&amp;w=300&amp;sz=9&amp;hl=en&amp;start=6&amp;sig2=LeVCg39c8KHamnztcOl_JA&amp;um=1&amp;tbnid=jpjV_9NSIWOoVM:&amp;tbnh=116&amp;tbnw=116&amp;prev=/images%3Fq%3Dbad%26hl%3Den%26um%3D1&amp;ei=v7HISaz3MqTwMprPibc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strike-the-root.com/caption5/other_people_front.JPG&amp;imgrefurl=http://www.strike-the-root.com/shirts.html&amp;usg=__pnsMOXOLW5ZjBPpC99h66i5DsQw=&amp;h=500&amp;w=500&amp;sz=168&amp;hl=en&amp;start=1&amp;sig2=dUlqNmASddn3E4Ae-3x0pw&amp;um=1&amp;tbnid=pb2qPG4GfxUfkM:&amp;tbnh=130&amp;tbnw=130&amp;prev=/images%3Fq%3Dother%2Bpeople%26hl%3Den%26um%3D1&amp;ei=xbLISdauNITwMsy4qL0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images.google.com/imgres?imgurl=http://www.apartmenttherapy.com/uimages/chicago/2-19-08closet1.jpg&amp;imgrefurl=http://www.apartmenttherapy.com/chicago/organizing/20-ways-to-organize-your-bedroom-closet-043236&amp;usg=__6lGQgg_xOGHT4RHLjUvHZAvaw4Y=&amp;h=535&amp;w=400&amp;sz=86&amp;hl=en&amp;start=3&amp;sig2=DCuwK63lb-IaBM84dYJ2bQ&amp;um=1&amp;tbnid=8dV0dStX72VAkM:&amp;tbnh=132&amp;tbnw=99&amp;prev=/images%3Fq%3Dto%2Borganize%26hl%3Den%26um%3D1&amp;ei=sbPISZf1CJCoM8f8xds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9144000" cy="990720"/>
          </a:xfrm>
          <a:custGeom>
            <a:avLst/>
            <a:gdLst>
              <a:gd name="textAreaLeft" fmla="*/ 31320 w 9144000"/>
              <a:gd name="textAreaRight" fmla="*/ 9112680 w 9144000"/>
              <a:gd name="textAreaTop" fmla="*/ 31320 h 990720"/>
              <a:gd name="textAreaBottom" fmla="*/ 959400 h 990720"/>
            </a:gdLst>
            <a:ahLst/>
            <a:rect l="textAreaLeft" t="textAreaTop" r="textAreaRight" b="textAreaBottom"/>
            <a:pathLst>
              <a:path w="199296" h="21600">
                <a:moveTo>
                  <a:pt x="0" y="0"/>
                </a:moveTo>
                <a:lnTo>
                  <a:pt x="199296" y="0"/>
                </a:lnTo>
                <a:lnTo>
                  <a:pt x="199296" y="21600"/>
                </a:lnTo>
                <a:lnTo>
                  <a:pt x="0" y="21600"/>
                </a:lnTo>
                <a:close/>
              </a:path>
              <a:path fill="lightenLess" w="199296" h="21600">
                <a:moveTo>
                  <a:pt x="0" y="0"/>
                </a:moveTo>
                <a:lnTo>
                  <a:pt x="199296" y="0"/>
                </a:lnTo>
                <a:lnTo>
                  <a:pt x="198606" y="690"/>
                </a:lnTo>
                <a:lnTo>
                  <a:pt x="690" y="690"/>
                </a:lnTo>
                <a:close/>
              </a:path>
              <a:path fill="darken" w="199296" h="21600">
                <a:moveTo>
                  <a:pt x="199296" y="0"/>
                </a:moveTo>
                <a:lnTo>
                  <a:pt x="199296" y="21600"/>
                </a:lnTo>
                <a:lnTo>
                  <a:pt x="198606" y="20910"/>
                </a:lnTo>
                <a:lnTo>
                  <a:pt x="198606" y="690"/>
                </a:lnTo>
                <a:close/>
              </a:path>
              <a:path fill="darkenLess" w="199296" h="21600">
                <a:moveTo>
                  <a:pt x="199296" y="21600"/>
                </a:moveTo>
                <a:lnTo>
                  <a:pt x="0" y="21600"/>
                </a:lnTo>
                <a:lnTo>
                  <a:pt x="690" y="20910"/>
                </a:lnTo>
                <a:lnTo>
                  <a:pt x="198606" y="20910"/>
                </a:lnTo>
                <a:close/>
              </a:path>
              <a:path fill="lighten" w="199296" h="21600">
                <a:moveTo>
                  <a:pt x="0" y="21600"/>
                </a:moveTo>
                <a:lnTo>
                  <a:pt x="0" y="0"/>
                </a:lnTo>
                <a:lnTo>
                  <a:pt x="690" y="690"/>
                </a:lnTo>
                <a:lnTo>
                  <a:pt x="690" y="20910"/>
                </a:lnTo>
                <a:close/>
              </a:path>
            </a:pathLst>
          </a:custGeom>
          <a:gradFill rotWithShape="0">
            <a:gsLst>
              <a:gs pos="0">
                <a:srgbClr val="0a0a53"/>
              </a:gs>
              <a:gs pos="50000">
                <a:srgbClr val="1f1fff"/>
              </a:gs>
              <a:gs pos="100000">
                <a:srgbClr val="0a0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-8640"/>
            <a:ext cx="70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עברית </a:t>
            </a:r>
            <a:r>
              <a:rPr b="1" lang="he-IL" sz="60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3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3049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954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8620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7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8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19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0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1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85000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2" action="ppaction://hlinksldjump"/>
              </a:rPr>
              <a:t>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485928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3" action="ppaction://hlinksldjump"/>
              </a:rPr>
              <a:t>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90512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4" action="ppaction://hlinksldjump"/>
              </a:rPr>
              <a:t>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889360"/>
            <a:ext cx="1218960" cy="93168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1680"/>
              <a:gd name="textAreaBottom" fmla="*/ 903600 h 931680"/>
            </a:gdLst>
            <a:ahLst/>
            <a:rect l="textAreaLeft" t="textAreaTop" r="textAreaRight" b="textAreaBottom"/>
            <a:pathLst>
              <a:path w="28258" h="21600">
                <a:moveTo>
                  <a:pt x="0" y="0"/>
                </a:moveTo>
                <a:lnTo>
                  <a:pt x="28258" y="0"/>
                </a:lnTo>
                <a:lnTo>
                  <a:pt x="28258" y="21600"/>
                </a:lnTo>
                <a:lnTo>
                  <a:pt x="0" y="21600"/>
                </a:lnTo>
                <a:close/>
              </a:path>
              <a:path fill="lightenLess" w="28258" h="21600">
                <a:moveTo>
                  <a:pt x="0" y="0"/>
                </a:moveTo>
                <a:lnTo>
                  <a:pt x="28258" y="0"/>
                </a:lnTo>
                <a:lnTo>
                  <a:pt x="27600" y="658"/>
                </a:lnTo>
                <a:lnTo>
                  <a:pt x="658" y="658"/>
                </a:lnTo>
                <a:close/>
              </a:path>
              <a:path fill="darken" w="28258" h="21600">
                <a:moveTo>
                  <a:pt x="28258" y="0"/>
                </a:moveTo>
                <a:lnTo>
                  <a:pt x="28258" y="21600"/>
                </a:lnTo>
                <a:lnTo>
                  <a:pt x="27600" y="20942"/>
                </a:lnTo>
                <a:lnTo>
                  <a:pt x="27600" y="658"/>
                </a:lnTo>
                <a:close/>
              </a:path>
              <a:path fill="darkenLess" w="28258" h="21600">
                <a:moveTo>
                  <a:pt x="28258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600" y="20942"/>
                </a:lnTo>
                <a:close/>
              </a:path>
              <a:path fill="lighten" w="28258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5" action="ppaction://hlinksldjump"/>
              </a:rPr>
              <a:t>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879720"/>
            <a:ext cx="1218960" cy="932040"/>
          </a:xfrm>
          <a:custGeom>
            <a:avLst/>
            <a:gdLst>
              <a:gd name="textAreaLeft" fmla="*/ 28080 w 1218960"/>
              <a:gd name="textAreaRight" fmla="*/ 1190880 w 1218960"/>
              <a:gd name="textAreaTop" fmla="*/ 28080 h 932040"/>
              <a:gd name="textAreaBottom" fmla="*/ 903960 h 932040"/>
            </a:gdLst>
            <a:ahLst/>
            <a:rect l="textAreaLeft" t="textAreaTop" r="textAreaRight" b="textAreaBottom"/>
            <a:pathLst>
              <a:path w="28247" h="21600">
                <a:moveTo>
                  <a:pt x="0" y="0"/>
                </a:moveTo>
                <a:lnTo>
                  <a:pt x="28247" y="0"/>
                </a:lnTo>
                <a:lnTo>
                  <a:pt x="28247" y="21600"/>
                </a:lnTo>
                <a:lnTo>
                  <a:pt x="0" y="21600"/>
                </a:lnTo>
                <a:close/>
              </a:path>
              <a:path fill="lightenLess" w="28247" h="21600">
                <a:moveTo>
                  <a:pt x="0" y="0"/>
                </a:moveTo>
                <a:lnTo>
                  <a:pt x="28247" y="0"/>
                </a:lnTo>
                <a:lnTo>
                  <a:pt x="27589" y="658"/>
                </a:lnTo>
                <a:lnTo>
                  <a:pt x="658" y="658"/>
                </a:lnTo>
                <a:close/>
              </a:path>
              <a:path fill="darken" w="28247" h="21600">
                <a:moveTo>
                  <a:pt x="28247" y="0"/>
                </a:moveTo>
                <a:lnTo>
                  <a:pt x="28247" y="21600"/>
                </a:lnTo>
                <a:lnTo>
                  <a:pt x="27589" y="20942"/>
                </a:lnTo>
                <a:lnTo>
                  <a:pt x="27589" y="658"/>
                </a:lnTo>
                <a:close/>
              </a:path>
              <a:path fill="darkenLess" w="28247" h="21600">
                <a:moveTo>
                  <a:pt x="28247" y="21600"/>
                </a:moveTo>
                <a:lnTo>
                  <a:pt x="0" y="21600"/>
                </a:lnTo>
                <a:lnTo>
                  <a:pt x="658" y="20942"/>
                </a:lnTo>
                <a:lnTo>
                  <a:pt x="27589" y="20942"/>
                </a:lnTo>
                <a:close/>
              </a:path>
              <a:path fill="lighten" w="28247" h="21600">
                <a:moveTo>
                  <a:pt x="0" y="21600"/>
                </a:moveTo>
                <a:lnTo>
                  <a:pt x="0" y="0"/>
                </a:lnTo>
                <a:lnTo>
                  <a:pt x="658" y="658"/>
                </a:lnTo>
                <a:lnTo>
                  <a:pt x="658" y="20942"/>
                </a:lnTo>
                <a:close/>
              </a:path>
            </a:pathLst>
          </a:custGeom>
          <a:gradFill rotWithShape="0">
            <a:gsLst>
              <a:gs pos="0">
                <a:srgbClr val="1f1fff"/>
              </a:gs>
              <a:gs pos="100000">
                <a:srgbClr val="131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 u="sng">
                <a:solidFill>
                  <a:srgbClr val="ffff00"/>
                </a:solidFill>
                <a:uFillTx/>
                <a:latin typeface="Times New Roman"/>
                <a:cs typeface="Times New Roman (Hebrew)"/>
                <a:hlinkClick r:id="rId26" action="ppaction://hlinksldjump"/>
              </a:rPr>
              <a:t>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040" y="111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86320" y="1294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RESEARCH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חק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15228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80640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O HELP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חקור   לעזור  למצ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עזו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4572000"/>
            <a:ext cx="518148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72640" y="811080"/>
            <a:ext cx="56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  __ __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LPED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R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80760" y="492588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עזר  לה</a:t>
            </a:r>
            <a:r>
              <a:rPr b="0" lang="he-IL" sz="48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806400"/>
            <a:ext cx="6096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ני רוצה __ __ __ __ __ את  האוצ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מצ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f s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v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ה אהב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m s Work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ה עבדת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f s com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PAST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ת   בא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זהב  וכסף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955960" cy="2355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511200"/>
            <a:ext cx="32004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ין  א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=  __ __ __ __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חושך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806400"/>
            <a:ext cx="6096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RST THEY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M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RESEARCH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HEN  THEY WRIT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קודם הם חוקרים הכל אחר כך הם כותב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5640" y="45464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4280" y="4572000"/>
            <a:ext cx="17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00"/>
                </a:solidFill>
                <a:latin typeface="Times New Roman"/>
                <a:cs typeface="Arial"/>
              </a:rPr>
              <a:t>נוצרי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4197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8064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עייף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465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נוצר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838080"/>
            <a:ext cx="1676160" cy="15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הוא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יהוד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38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ל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2000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שנ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4114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פני אלפיים שנה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4114800"/>
            <a:ext cx="670572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608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Arial"/>
              </a:rPr>
              <a:t>אם אין  חושך  אז יש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__ __ 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ור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8064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THER PEOPLE SPEAK ANOTHER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4114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נשים אחרים מדברים שפה אחרת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897200"/>
            <a:ext cx="1647720" cy="1160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7315200" y="1600200"/>
            <a:ext cx="13413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HE WAS ANGRY AT ME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כעס עלי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16988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=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לא  טוב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41148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ר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פני    ואחרי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38280" y="63360"/>
            <a:ext cx="3962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99072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נשים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אחרים</a:t>
            </a:r>
            <a:r>
              <a:rPr b="0" lang="he-IL" sz="24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066680"/>
            <a:ext cx="6096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פה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__ __ __ __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THER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FS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4114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שפה  אחרת</a:t>
            </a:r>
            <a:r>
              <a:rPr b="0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8380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הוא __ __ __ __ את החדר שלו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85560" y="441792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00"/>
                </a:solidFill>
                <a:latin typeface="Times New Roman"/>
                <a:cs typeface="Times New Roman (Hebrew)"/>
              </a:rPr>
              <a:t>מסדר</a:t>
            </a:r>
            <a:r>
              <a:rPr b="0" lang="he-IL" sz="2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962520" y="1755720"/>
            <a:ext cx="1981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8064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TO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ORGANIZE </a:t>
            </a:r>
            <a:r>
              <a:rPr b="1" lang="he-IL" sz="36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לסדר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8120" y="46080"/>
            <a:ext cx="2022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gradFill rotWithShape="0">
            <a:gsLst>
              <a:gs pos="0">
                <a:srgbClr val="3333cc"/>
              </a:gs>
              <a:gs pos="100000">
                <a:srgbClr val="24249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114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Times New Roman (Hebrew)"/>
              </a:rPr>
              <a:t>הוא הלך ברגל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5181840" cy="1676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66760" y="35949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Below to Reveal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7926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00200" y="37926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6019920"/>
            <a:ext cx="1600200" cy="457200"/>
          </a:xfrm>
          <a:custGeom>
            <a:avLst/>
            <a:gdLst>
              <a:gd name="textAreaLeft" fmla="*/ 61920 w 1600200"/>
              <a:gd name="textAreaRight" fmla="*/ 1538280 w 1600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2633" y="2925"/>
                </a:lnTo>
                <a:lnTo>
                  <a:pt x="2925" y="2925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2633" y="18675"/>
                </a:lnTo>
                <a:lnTo>
                  <a:pt x="72633" y="2925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72633" y="18675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955040" y="6095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2956320" y="60955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3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HE WALKED ON FOOT</a:t>
            </a:r>
            <a:r>
              <a:rPr b="0" lang="he-IL" sz="4800" spc="-1" strike="noStrike">
                <a:solidFill>
                  <a:srgbClr val="ffff00"/>
                </a:solidFill>
                <a:latin typeface="Times New Roman"/>
                <a:ea typeface="Times New Roman (Hebrew)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0T12:13:14Z</dcterms:created>
  <dc:creator>Marchessault</dc:creator>
  <dc:description/>
  <dc:language>en-US</dc:language>
  <cp:lastModifiedBy>aschlezinger</cp:lastModifiedBy>
  <dcterms:modified xsi:type="dcterms:W3CDTF">2010-11-02T21:50:51Z</dcterms:modified>
  <cp:revision>76</cp:revision>
  <dc:subject/>
  <dc:title>No Slide Title</dc:title>
</cp:coreProperties>
</file>